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4C5-C24D-44C0-809A-53CE9453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DA7-CFCE-4997-A76D-C7A8A20E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DA1-EC2C-49FB-A22F-8151CDB7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FC4-FFEA-4FEE-8464-FEE935EA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C6D-A9F5-4BCD-8C11-75D4CD2A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259-C648-4F74-9867-11484319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B3C2-AC6D-4D02-81AE-C21B4B04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C1C-BC8F-43BE-ABEF-3134EAE1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4EC-827E-4CEF-986A-4E7F6426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F53-41DC-402D-9450-DA636D36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123-AE1E-4327-A4C9-0A14C527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F7E-F216-4B52-AD6B-7826562C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9D37-657D-4F91-B26B-BB75FE0854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IALA Participation in IHO Regist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resentation to PAP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3 May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Arial"/>
                <a:ea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mmon Maritime Data Structure is a top-level requirement for e-navig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HO has established a GI Registry, governed by S-100 &amp; S-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MO NAV 57 agreed on IHO Registry as baseline for the collection, exchange, and distribution of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ALA Council 52 approved registration of IALA at IHO as a Submitting Organization &amp; domain own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ALA operational procedures in Guideline conform to IHO standard S-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Arial"/>
                <a:ea typeface="Arial"/>
              </a:rPr>
              <a:t>IHO Regi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197000" y="1357200"/>
            <a:ext cx="65898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Process in IA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S-100 flowchart"/>
          <p:cNvPicPr/>
          <p:nvPr/>
        </p:nvPicPr>
        <p:blipFill>
          <a:blip r:embed="rId1"/>
          <a:stretch/>
        </p:blipFill>
        <p:spPr>
          <a:xfrm>
            <a:off x="1714680" y="1285920"/>
            <a:ext cx="56433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  <a:ea typeface="Arial"/>
              </a:rPr>
              <a:t>IALA Organizational Char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Macintosh HD:Users:Mike:Documents:A_Work:IALA:Committees:e-NAV Committee:e-NAV11 Mar12:Report inputs:IALA Org chart.jpg"/>
          <p:cNvPicPr/>
          <p:nvPr/>
        </p:nvPicPr>
        <p:blipFill>
          <a:blip r:embed="rId1"/>
          <a:stretch/>
        </p:blipFill>
        <p:spPr>
          <a:xfrm>
            <a:off x="777960" y="1000080"/>
            <a:ext cx="75880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IALA appl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elds: AtoNs, VTS, AIS, Risk Analysis, WWR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VEF – Technical WG in VTS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oN Information – e-NAV lead, ANM &amp; EEP provide input (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S – applications to be identif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sk Analysis – IWRA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RN – applications to be identif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IHO Registry is the baseline for CM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-100 gives a framework for data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accommodate IALA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gnificant impact on IALA,  but also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7:06:38Z</dcterms:created>
  <dc:creator>Nick Ward</dc:creator>
  <dc:description/>
  <dc:language>en-US</dc:language>
  <cp:lastModifiedBy>Nick Ward</cp:lastModifiedBy>
  <dcterms:modified xsi:type="dcterms:W3CDTF">2012-05-03T05:31:05Z</dcterms:modified>
  <cp:revision>5</cp:revision>
  <dc:subject/>
  <dc:title>IALA Participation in IHO Registry</dc:title>
</cp:coreProperties>
</file>